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C99A-78E9-4969-9611-DA06440CF0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флекс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424-336E-40CA-83E5-E17CC35E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DA8D-0108-4519-91F7-551E008C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ED95-6639-477B-A15E-2B3BC1D7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5BC1-6888-47D6-BE92-C4581D13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7CC6B-BA2B-4D3B-9E04-7176DE5B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CB094-11A1-4CD4-9FCB-84306656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1552F-66A0-4FC7-8816-3366C4CB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9017A-CFD3-4EB0-924E-55679ED3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A442B-3ADE-48EA-AD3B-2031225E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7D3AB-9B6C-4A65-AFC1-B0C98DBB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26A05-9F3D-41CF-99DC-0EA139FA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0D0-988C-474A-BA2D-3953A0B2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A047F-6402-4731-AF6D-B8CBE907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53D4C-2DD6-4EA7-A34D-80E84B1C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6EF80-0D6D-47FA-9224-B66C35DA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22B3E-E6E4-428C-9BDA-648B45A9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5F3FD-3BFB-4A5E-BEE0-FEE72141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6D26E-7F87-4A72-8921-23AF9179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982DE-F39E-49A7-8135-B62DFBEA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251DB-E507-4BAA-BA51-1E3170A9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4E66D-06AE-46EE-AF54-D111C3A0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2FC43-5C2A-4BA5-887E-391EAFF9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83B-5AB9-43CD-94BB-9C58D1F9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931B8-971B-477A-A698-0C715518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7B32-8A33-499E-A892-A20010E5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5A7C1-F966-443A-999A-90A9D298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08D94-1E8D-422E-8090-AB817E68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4C6B2-42BD-4C48-8566-A9905DAB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BBB94-6B9F-4B36-B577-1DC40C2C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20F98-9951-4167-84FD-DF2BDCAF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8CCA0-4FBE-4876-BC80-6010AAE7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2411D-5536-45DD-9676-4BA8BBCA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2F123-8066-43A5-A448-D4AC558C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0868-C816-494F-9C08-E962721C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8A5DB-48FC-499D-9BF5-FDB9968D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EE50A-C084-475E-805E-27B6DFB6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D4BA6-6A0E-4D87-9CB3-F71381F7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DA5D1-EBDF-4B02-9827-6A7AF3BC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0761B-7EF7-403B-8CE2-AB924163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3CA15-7D8F-4B11-8719-03090218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1EDCD-F99A-4216-91CF-7EB5F708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2AF90-B2A2-46AB-A504-1315AFFB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DEA37-4F22-45CF-BF93-29C92174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B1B4D-1DD3-4FB4-BD6E-39D8FD9A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78B-0145-433D-9655-4997F129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FED02-611F-4F46-95BE-72954496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958D9-8CCE-4A7C-85C1-A9E1EE00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DE5EC-4DE9-4BF1-B6B1-391E0484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C2DA9-36FD-4BA8-A1EF-6AEC736E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9CB51-64B7-4147-8F28-F4D78C35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93466-B803-48C7-B9D8-ACBC0D4A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73AE9-38F9-4B08-B469-7B6D1FB6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452A8-F96B-44CC-8266-A60DFA8C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4138F-456B-4B83-8F20-E8A722CE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43548-8625-4D09-9C71-F44D34FE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B02D-73FC-4820-B4F0-A0849C04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00A7C-A94B-4CF4-BB01-A1D53377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4AD66-161F-44EE-9150-750E92FE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D2271-5424-406F-92A9-BB4B71F9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40AE8-54E0-4299-A67D-8B1D146E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CDE35-7C88-4BBE-BC63-87E756CA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4CAB7-8C6E-401B-922E-25968951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7E0C1-C977-4C1A-87C3-C474CFAA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E9308-854B-41C6-99DF-0BA3B1EA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E517F-1F54-44DB-BA4E-8215FD33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634E4-B318-4298-8A42-4E026622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06E-7E7C-4CA7-B3FD-65C95009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AA58A-52DE-4B6A-B695-19CD2A05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1F569-ED83-4ABF-8C8A-0FC0743B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5BA4D-3A9C-4177-9052-A5FD0013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2E6FD3-4C11-4680-94DF-A1C9F3D9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A7BCB2-25D1-41AD-B9C9-357A3572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92A4CC-778F-463C-A42E-1035C2CF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E05EC2-F304-4843-91D1-BCC9F646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5C7323-2BBD-4E34-B352-116C903C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E3C39B-8D4F-4CB3-BD51-6CE90A75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D9EB11-294D-4933-976F-B738E47E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77B-9AA9-4E4A-BFD1-1DA5043F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5CB5BC-FB18-4EA0-B559-95620472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70D7BD-E4BE-482C-ABDF-A6F02949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68F1E-09ED-41BC-B90E-955CB355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1D0A6C-2408-49F3-8333-28604796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124857-5E94-4A38-B7DA-079A2CEF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8B35-233B-41A6-98F6-0358AF81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B043-C4C0-4C3B-899D-234844CED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03B3-F984-4981-B79A-DBBFE9013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9B2E-3470-4F16-9067-E4ABCD40B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4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D919-4A5B-4CDD-8CA8-1E149FDDC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9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87B1-440E-4566-94E8-947ACA63E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DE44-529C-4B03-88C0-37D9454842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D342-7826-42DC-B27C-631F3639C5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ИНИСТЕРСТВО ОБРАЗОВАНИЯ И НАУКИ РОССИЙСКОЙ ФЕДЕРАЦИ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Федеральное агентство по образованию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МИ ГОСУДАРСТВЕННЫЙ ПЕДАГОГИЧЕСКИЙ ИНСТИТУ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Факультет педагогики и методики начального образовани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пециальность «Педагогика и методика начального образования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федра педагогики и методики начального образовани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очное отдел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52280" y="236232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ЕЗЕНТАЦИЯ ПО ИЗОБРАЗИТЕЛЬНОМУ ИСКУССТВ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ХУДОЖЕСТВЕННОМУ ТРУ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РИСОВАНИЕ ДЫМКОВСКОЙ ИГРУШ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 руковод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березкой В.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полн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удентка 4 курса 643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ебединец Ек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Сыктывкар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ымковская роспис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сновной элемент роспис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геометрические узоры, зигзаги, круги, полоски, волнистые линии, круглые пятна, точки и клет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1815840" cy="25099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76720" y="3886200"/>
            <a:ext cx="2062080" cy="29718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6095880" y="3733920"/>
            <a:ext cx="1955880" cy="2741400"/>
          </a:xfrm>
          <a:prstGeom prst="rect">
            <a:avLst/>
          </a:prstGeom>
          <a:ln w="0">
            <a:noFill/>
          </a:ln>
        </p:spPr>
      </p:pic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8153280" y="6019920"/>
            <a:ext cx="814680" cy="685800"/>
          </a:xfrm>
          <a:custGeom>
            <a:avLst/>
            <a:gdLst>
              <a:gd name="textAreaLeft" fmla="*/ 44280 w 814680"/>
              <a:gd name="textAreaRight" fmla="*/ 770400 w 814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57" h="21600">
                <a:moveTo>
                  <a:pt x="0" y="0"/>
                </a:moveTo>
                <a:lnTo>
                  <a:pt x="25657" y="0"/>
                </a:lnTo>
                <a:lnTo>
                  <a:pt x="25657" y="21600"/>
                </a:lnTo>
                <a:lnTo>
                  <a:pt x="0" y="21600"/>
                </a:lnTo>
                <a:close/>
              </a:path>
              <a:path fill="lightenLess" w="25657" h="21600">
                <a:moveTo>
                  <a:pt x="0" y="0"/>
                </a:moveTo>
                <a:lnTo>
                  <a:pt x="25657" y="0"/>
                </a:lnTo>
                <a:lnTo>
                  <a:pt x="24257" y="1400"/>
                </a:lnTo>
                <a:lnTo>
                  <a:pt x="1400" y="1400"/>
                </a:lnTo>
                <a:close/>
              </a:path>
              <a:path fill="darken" w="25657" h="21600">
                <a:moveTo>
                  <a:pt x="25657" y="0"/>
                </a:moveTo>
                <a:lnTo>
                  <a:pt x="25657" y="21600"/>
                </a:lnTo>
                <a:lnTo>
                  <a:pt x="24257" y="20200"/>
                </a:lnTo>
                <a:lnTo>
                  <a:pt x="24257" y="1400"/>
                </a:lnTo>
                <a:close/>
              </a:path>
              <a:path fill="darkenLess" w="25657" h="21600">
                <a:moveTo>
                  <a:pt x="25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57" y="20200"/>
                </a:lnTo>
                <a:close/>
              </a:path>
              <a:path fill="lighten" w="25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57" h="21600">
                <a:moveTo>
                  <a:pt x="5822" y="3794"/>
                </a:moveTo>
                <a:lnTo>
                  <a:pt x="19835" y="10800"/>
                </a:lnTo>
                <a:lnTo>
                  <a:pt x="582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дымковской игрушке используют следующие цвета: красный, оранжевый, желтый, малиновый, синий,  голубой, изумрудный, зеленый и в очень небольшом количестве коричневый и черный.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2160720" cy="30481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2320920" cy="32720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3581280" y="3200400"/>
            <a:ext cx="2221200" cy="32068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8634240" y="6195960"/>
            <a:ext cx="509760" cy="66204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662040"/>
              <a:gd name="textAreaBottom" fmla="*/ 629280 h 662040"/>
            </a:gdLst>
            <a:ahLst/>
            <a:rect l="textAreaLeft" t="textAreaTop" r="textAreaRight" b="textAreaBottom"/>
            <a:pathLst>
              <a:path w="21600" h="28048">
                <a:moveTo>
                  <a:pt x="0" y="0"/>
                </a:moveTo>
                <a:lnTo>
                  <a:pt x="21600" y="0"/>
                </a:lnTo>
                <a:lnTo>
                  <a:pt x="21600" y="28048"/>
                </a:lnTo>
                <a:lnTo>
                  <a:pt x="0" y="28048"/>
                </a:lnTo>
                <a:close/>
              </a:path>
              <a:path fill="lightenLess" w="21600" h="28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48">
                <a:moveTo>
                  <a:pt x="21600" y="0"/>
                </a:moveTo>
                <a:lnTo>
                  <a:pt x="21600" y="28048"/>
                </a:lnTo>
                <a:lnTo>
                  <a:pt x="20200" y="26648"/>
                </a:lnTo>
                <a:lnTo>
                  <a:pt x="20200" y="1400"/>
                </a:lnTo>
                <a:close/>
              </a:path>
              <a:path fill="darkenLess" w="21600" h="28048">
                <a:moveTo>
                  <a:pt x="21600" y="28048"/>
                </a:moveTo>
                <a:lnTo>
                  <a:pt x="0" y="28048"/>
                </a:lnTo>
                <a:lnTo>
                  <a:pt x="1400" y="26648"/>
                </a:lnTo>
                <a:lnTo>
                  <a:pt x="20200" y="26648"/>
                </a:lnTo>
                <a:close/>
              </a:path>
              <a:path fill="lighten" w="21600" h="28048">
                <a:moveTo>
                  <a:pt x="0" y="28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48"/>
                </a:lnTo>
                <a:close/>
              </a:path>
              <a:path fill="darken" w="21600" h="28048">
                <a:moveTo>
                  <a:pt x="10800" y="7061"/>
                </a:moveTo>
                <a:lnTo>
                  <a:pt x="13376" y="9672"/>
                </a:ln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lnTo>
                  <a:pt x="17763" y="14024"/>
                </a:lnTo>
                <a:lnTo>
                  <a:pt x="16109" y="14024"/>
                </a:lnTo>
                <a:lnTo>
                  <a:pt x="16109" y="21213"/>
                </a:lnTo>
                <a:lnTo>
                  <a:pt x="5491" y="21213"/>
                </a:lnTo>
                <a:lnTo>
                  <a:pt x="5491" y="14024"/>
                </a:lnTo>
                <a:lnTo>
                  <a:pt x="3837" y="14024"/>
                </a:lnTo>
                <a:close/>
              </a:path>
              <a:path fill="darkenLess" w="21600" h="28048">
                <a:moveTo>
                  <a:pt x="13376" y="9672"/>
                </a:move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close/>
              </a:path>
              <a:path fill="darkenLess" w="21600" h="28048">
                <a:moveTo>
                  <a:pt x="9877" y="17523"/>
                </a:moveTo>
                <a:lnTo>
                  <a:pt x="11723" y="17523"/>
                </a:lnTo>
                <a:lnTo>
                  <a:pt x="11723" y="21213"/>
                </a:lnTo>
                <a:lnTo>
                  <a:pt x="16109" y="21213"/>
                </a:lnTo>
                <a:lnTo>
                  <a:pt x="16109" y="14024"/>
                </a:lnTo>
                <a:lnTo>
                  <a:pt x="5491" y="14024"/>
                </a:lnTo>
                <a:lnTo>
                  <a:pt x="5491" y="21213"/>
                </a:lnTo>
                <a:lnTo>
                  <a:pt x="9877" y="21213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ahoma"/>
              </a:rPr>
              <a:t>Как расписывать игрушк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делай эскиз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чинай роспись с крупных цветовых пяте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онкие полоски и тёмные точки наноси в последнюю очеред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ли тёмные и светлые цвета расположены рядом, то начинай со светлог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8153280" y="6019920"/>
            <a:ext cx="814680" cy="685800"/>
          </a:xfrm>
          <a:custGeom>
            <a:avLst/>
            <a:gdLst>
              <a:gd name="textAreaLeft" fmla="*/ 44280 w 814680"/>
              <a:gd name="textAreaRight" fmla="*/ 770400 w 814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57" h="21600">
                <a:moveTo>
                  <a:pt x="0" y="0"/>
                </a:moveTo>
                <a:lnTo>
                  <a:pt x="25657" y="0"/>
                </a:lnTo>
                <a:lnTo>
                  <a:pt x="25657" y="21600"/>
                </a:lnTo>
                <a:lnTo>
                  <a:pt x="0" y="21600"/>
                </a:lnTo>
                <a:close/>
              </a:path>
              <a:path fill="lightenLess" w="25657" h="21600">
                <a:moveTo>
                  <a:pt x="0" y="0"/>
                </a:moveTo>
                <a:lnTo>
                  <a:pt x="25657" y="0"/>
                </a:lnTo>
                <a:lnTo>
                  <a:pt x="24257" y="1400"/>
                </a:lnTo>
                <a:lnTo>
                  <a:pt x="1400" y="1400"/>
                </a:lnTo>
                <a:close/>
              </a:path>
              <a:path fill="darken" w="25657" h="21600">
                <a:moveTo>
                  <a:pt x="25657" y="0"/>
                </a:moveTo>
                <a:lnTo>
                  <a:pt x="25657" y="21600"/>
                </a:lnTo>
                <a:lnTo>
                  <a:pt x="24257" y="20200"/>
                </a:lnTo>
                <a:lnTo>
                  <a:pt x="24257" y="1400"/>
                </a:lnTo>
                <a:close/>
              </a:path>
              <a:path fill="darkenLess" w="25657" h="21600">
                <a:moveTo>
                  <a:pt x="25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57" y="20200"/>
                </a:lnTo>
                <a:close/>
              </a:path>
              <a:path fill="lighten" w="25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57" h="21600">
                <a:moveTo>
                  <a:pt x="5822" y="3794"/>
                </a:moveTo>
                <a:lnTo>
                  <a:pt x="19835" y="10800"/>
                </a:lnTo>
                <a:lnTo>
                  <a:pt x="582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забывай оставлять белое поле, иначе игрушка потеряет наряд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верши работу наклеиванием «золотинок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3112920" cy="38797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4038480" cy="37479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8634240" y="6195960"/>
            <a:ext cx="509760" cy="66204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662040"/>
              <a:gd name="textAreaBottom" fmla="*/ 629280 h 662040"/>
            </a:gdLst>
            <a:ahLst/>
            <a:rect l="textAreaLeft" t="textAreaTop" r="textAreaRight" b="textAreaBottom"/>
            <a:pathLst>
              <a:path w="21600" h="28048">
                <a:moveTo>
                  <a:pt x="0" y="0"/>
                </a:moveTo>
                <a:lnTo>
                  <a:pt x="21600" y="0"/>
                </a:lnTo>
                <a:lnTo>
                  <a:pt x="21600" y="28048"/>
                </a:lnTo>
                <a:lnTo>
                  <a:pt x="0" y="28048"/>
                </a:lnTo>
                <a:close/>
              </a:path>
              <a:path fill="lightenLess" w="21600" h="28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48">
                <a:moveTo>
                  <a:pt x="21600" y="0"/>
                </a:moveTo>
                <a:lnTo>
                  <a:pt x="21600" y="28048"/>
                </a:lnTo>
                <a:lnTo>
                  <a:pt x="20200" y="26648"/>
                </a:lnTo>
                <a:lnTo>
                  <a:pt x="20200" y="1400"/>
                </a:lnTo>
                <a:close/>
              </a:path>
              <a:path fill="darkenLess" w="21600" h="28048">
                <a:moveTo>
                  <a:pt x="21600" y="28048"/>
                </a:moveTo>
                <a:lnTo>
                  <a:pt x="0" y="28048"/>
                </a:lnTo>
                <a:lnTo>
                  <a:pt x="1400" y="26648"/>
                </a:lnTo>
                <a:lnTo>
                  <a:pt x="20200" y="26648"/>
                </a:lnTo>
                <a:close/>
              </a:path>
              <a:path fill="lighten" w="21600" h="28048">
                <a:moveTo>
                  <a:pt x="0" y="28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48"/>
                </a:lnTo>
                <a:close/>
              </a:path>
              <a:path fill="darken" w="21600" h="28048">
                <a:moveTo>
                  <a:pt x="10800" y="7061"/>
                </a:moveTo>
                <a:lnTo>
                  <a:pt x="13376" y="9672"/>
                </a:ln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lnTo>
                  <a:pt x="17763" y="14024"/>
                </a:lnTo>
                <a:lnTo>
                  <a:pt x="16109" y="14024"/>
                </a:lnTo>
                <a:lnTo>
                  <a:pt x="16109" y="21213"/>
                </a:lnTo>
                <a:lnTo>
                  <a:pt x="5491" y="21213"/>
                </a:lnTo>
                <a:lnTo>
                  <a:pt x="5491" y="14024"/>
                </a:lnTo>
                <a:lnTo>
                  <a:pt x="3837" y="14024"/>
                </a:lnTo>
                <a:close/>
              </a:path>
              <a:path fill="darkenLess" w="21600" h="28048">
                <a:moveTo>
                  <a:pt x="13376" y="9672"/>
                </a:move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close/>
              </a:path>
              <a:path fill="darkenLess" w="21600" h="28048">
                <a:moveTo>
                  <a:pt x="9877" y="17523"/>
                </a:moveTo>
                <a:lnTo>
                  <a:pt x="11723" y="17523"/>
                </a:lnTo>
                <a:lnTo>
                  <a:pt x="11723" y="21213"/>
                </a:lnTo>
                <a:lnTo>
                  <a:pt x="16109" y="21213"/>
                </a:lnTo>
                <a:lnTo>
                  <a:pt x="16109" y="14024"/>
                </a:lnTo>
                <a:lnTo>
                  <a:pt x="5491" y="14024"/>
                </a:lnTo>
                <a:lnTo>
                  <a:pt x="5491" y="21213"/>
                </a:lnTo>
                <a:lnTo>
                  <a:pt x="9877" y="2121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772400" y="6172200"/>
            <a:ext cx="585720" cy="509760"/>
          </a:xfrm>
          <a:custGeom>
            <a:avLst/>
            <a:gdLst>
              <a:gd name="textAreaLeft" fmla="*/ 32760 w 585720"/>
              <a:gd name="textAreaRight" fmla="*/ 552960 w 5857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4816" h="21600">
                <a:moveTo>
                  <a:pt x="0" y="0"/>
                </a:moveTo>
                <a:lnTo>
                  <a:pt x="24816" y="0"/>
                </a:lnTo>
                <a:lnTo>
                  <a:pt x="24816" y="21600"/>
                </a:lnTo>
                <a:lnTo>
                  <a:pt x="0" y="21600"/>
                </a:lnTo>
                <a:close/>
              </a:path>
              <a:path fill="lightenLess" w="24816" h="21600">
                <a:moveTo>
                  <a:pt x="0" y="0"/>
                </a:moveTo>
                <a:lnTo>
                  <a:pt x="24816" y="0"/>
                </a:lnTo>
                <a:lnTo>
                  <a:pt x="23416" y="1400"/>
                </a:lnTo>
                <a:lnTo>
                  <a:pt x="1400" y="1400"/>
                </a:lnTo>
                <a:close/>
              </a:path>
              <a:path fill="darken" w="24816" h="21600">
                <a:moveTo>
                  <a:pt x="24816" y="0"/>
                </a:moveTo>
                <a:lnTo>
                  <a:pt x="24816" y="21600"/>
                </a:lnTo>
                <a:lnTo>
                  <a:pt x="23416" y="20200"/>
                </a:lnTo>
                <a:lnTo>
                  <a:pt x="23416" y="1400"/>
                </a:lnTo>
                <a:close/>
              </a:path>
              <a:path fill="darkenLess" w="24816" h="21600">
                <a:moveTo>
                  <a:pt x="24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6" y="20200"/>
                </a:lnTo>
                <a:close/>
              </a:path>
              <a:path fill="lighten" w="24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6" h="21600">
                <a:moveTo>
                  <a:pt x="5402" y="7301"/>
                </a:moveTo>
                <a:lnTo>
                  <a:pt x="6316" y="7301"/>
                </a:lnTo>
                <a:lnTo>
                  <a:pt x="6699" y="7667"/>
                </a:lnTo>
                <a:lnTo>
                  <a:pt x="15907" y="7667"/>
                </a:lnTo>
                <a:lnTo>
                  <a:pt x="16464" y="8224"/>
                </a:lnTo>
                <a:lnTo>
                  <a:pt x="16464" y="8772"/>
                </a:lnTo>
                <a:lnTo>
                  <a:pt x="18309" y="8772"/>
                </a:lnTo>
                <a:lnTo>
                  <a:pt x="18675" y="8224"/>
                </a:lnTo>
                <a:lnTo>
                  <a:pt x="19415" y="8224"/>
                </a:lnTo>
                <a:lnTo>
                  <a:pt x="19415" y="13376"/>
                </a:lnTo>
                <a:lnTo>
                  <a:pt x="18675" y="13376"/>
                </a:lnTo>
                <a:lnTo>
                  <a:pt x="18309" y="12828"/>
                </a:lnTo>
                <a:lnTo>
                  <a:pt x="16464" y="12828"/>
                </a:lnTo>
                <a:lnTo>
                  <a:pt x="16464" y="14107"/>
                </a:lnTo>
                <a:lnTo>
                  <a:pt x="6881" y="14107"/>
                </a:lnTo>
                <a:lnTo>
                  <a:pt x="6881" y="9877"/>
                </a:lnTo>
                <a:lnTo>
                  <a:pt x="6699" y="9877"/>
                </a:lnTo>
                <a:lnTo>
                  <a:pt x="6316" y="10243"/>
                </a:lnTo>
                <a:lnTo>
                  <a:pt x="5402" y="1024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бята, если вам было интересно и понятно все на уроке, то поднимите желтый кру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было интересно, но сложно работать на уроке-зеленый кру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было скучно и не понятно-красный кру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001000" y="2057400"/>
            <a:ext cx="685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3276720"/>
            <a:ext cx="685800" cy="7617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57400" y="4952880"/>
            <a:ext cx="685800" cy="68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4920" y="2286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Рефлекси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634240" y="6195960"/>
            <a:ext cx="509760" cy="66204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662040"/>
              <a:gd name="textAreaBottom" fmla="*/ 629280 h 662040"/>
            </a:gdLst>
            <a:ahLst/>
            <a:rect l="textAreaLeft" t="textAreaTop" r="textAreaRight" b="textAreaBottom"/>
            <a:pathLst>
              <a:path w="21600" h="28048">
                <a:moveTo>
                  <a:pt x="0" y="0"/>
                </a:moveTo>
                <a:lnTo>
                  <a:pt x="21600" y="0"/>
                </a:lnTo>
                <a:lnTo>
                  <a:pt x="21600" y="28048"/>
                </a:lnTo>
                <a:lnTo>
                  <a:pt x="0" y="28048"/>
                </a:lnTo>
                <a:close/>
              </a:path>
              <a:path fill="lightenLess" w="21600" h="28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48">
                <a:moveTo>
                  <a:pt x="21600" y="0"/>
                </a:moveTo>
                <a:lnTo>
                  <a:pt x="21600" y="28048"/>
                </a:lnTo>
                <a:lnTo>
                  <a:pt x="20200" y="26648"/>
                </a:lnTo>
                <a:lnTo>
                  <a:pt x="20200" y="1400"/>
                </a:lnTo>
                <a:close/>
              </a:path>
              <a:path fill="darkenLess" w="21600" h="28048">
                <a:moveTo>
                  <a:pt x="21600" y="28048"/>
                </a:moveTo>
                <a:lnTo>
                  <a:pt x="0" y="28048"/>
                </a:lnTo>
                <a:lnTo>
                  <a:pt x="1400" y="26648"/>
                </a:lnTo>
                <a:lnTo>
                  <a:pt x="20200" y="26648"/>
                </a:lnTo>
                <a:close/>
              </a:path>
              <a:path fill="lighten" w="21600" h="28048">
                <a:moveTo>
                  <a:pt x="0" y="28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48"/>
                </a:lnTo>
                <a:close/>
              </a:path>
              <a:path fill="darken" w="21600" h="28048">
                <a:moveTo>
                  <a:pt x="10800" y="7061"/>
                </a:moveTo>
                <a:lnTo>
                  <a:pt x="13376" y="9672"/>
                </a:ln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lnTo>
                  <a:pt x="17763" y="14024"/>
                </a:lnTo>
                <a:lnTo>
                  <a:pt x="16109" y="14024"/>
                </a:lnTo>
                <a:lnTo>
                  <a:pt x="16109" y="21213"/>
                </a:lnTo>
                <a:lnTo>
                  <a:pt x="5491" y="21213"/>
                </a:lnTo>
                <a:lnTo>
                  <a:pt x="5491" y="14024"/>
                </a:lnTo>
                <a:lnTo>
                  <a:pt x="3837" y="14024"/>
                </a:lnTo>
                <a:close/>
              </a:path>
              <a:path fill="darkenLess" w="21600" h="28048">
                <a:moveTo>
                  <a:pt x="13376" y="9672"/>
                </a:move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close/>
              </a:path>
              <a:path fill="darkenLess" w="21600" h="28048">
                <a:moveTo>
                  <a:pt x="9877" y="17523"/>
                </a:moveTo>
                <a:lnTo>
                  <a:pt x="11723" y="17523"/>
                </a:lnTo>
                <a:lnTo>
                  <a:pt x="11723" y="21213"/>
                </a:lnTo>
                <a:lnTo>
                  <a:pt x="16109" y="21213"/>
                </a:lnTo>
                <a:lnTo>
                  <a:pt x="16109" y="14024"/>
                </a:lnTo>
                <a:lnTo>
                  <a:pt x="5491" y="14024"/>
                </a:lnTo>
                <a:lnTo>
                  <a:pt x="5491" y="21213"/>
                </a:lnTo>
                <a:lnTo>
                  <a:pt x="9877" y="212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ahoma"/>
              </a:rPr>
              <a:t>Спасибо за работу на уроке!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образительное искусство: Учеб. Для 1 кл.нач.шк./ Т.Я.Шпикалова.-2-3 издание.-М.: Просвещение, 2004.-94с.: 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оголюбов Н.С. Лепка на занятиях в школьном кружке. М.: Просвещение, 1979. 14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http://www.1-kvazar.ru/u_dymk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ahoma"/>
              </a:rPr>
              <a:t>Содержание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торическая справка о дымковской игруш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обенности лепки персонаж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ымковская роспис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расписывать игрушк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флекс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8634240" y="6195960"/>
            <a:ext cx="509760" cy="66204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662040"/>
              <a:gd name="textAreaBottom" fmla="*/ 629280 h 662040"/>
            </a:gdLst>
            <a:ahLst/>
            <a:rect l="textAreaLeft" t="textAreaTop" r="textAreaRight" b="textAreaBottom"/>
            <a:pathLst>
              <a:path w="21600" h="28048">
                <a:moveTo>
                  <a:pt x="0" y="0"/>
                </a:moveTo>
                <a:lnTo>
                  <a:pt x="21600" y="0"/>
                </a:lnTo>
                <a:lnTo>
                  <a:pt x="21600" y="28048"/>
                </a:lnTo>
                <a:lnTo>
                  <a:pt x="0" y="28048"/>
                </a:lnTo>
                <a:close/>
              </a:path>
              <a:path fill="lightenLess" w="21600" h="28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48">
                <a:moveTo>
                  <a:pt x="21600" y="0"/>
                </a:moveTo>
                <a:lnTo>
                  <a:pt x="21600" y="28048"/>
                </a:lnTo>
                <a:lnTo>
                  <a:pt x="20200" y="26648"/>
                </a:lnTo>
                <a:lnTo>
                  <a:pt x="20200" y="1400"/>
                </a:lnTo>
                <a:close/>
              </a:path>
              <a:path fill="darkenLess" w="21600" h="28048">
                <a:moveTo>
                  <a:pt x="21600" y="28048"/>
                </a:moveTo>
                <a:lnTo>
                  <a:pt x="0" y="28048"/>
                </a:lnTo>
                <a:lnTo>
                  <a:pt x="1400" y="26648"/>
                </a:lnTo>
                <a:lnTo>
                  <a:pt x="20200" y="26648"/>
                </a:lnTo>
                <a:close/>
              </a:path>
              <a:path fill="lighten" w="21600" h="28048">
                <a:moveTo>
                  <a:pt x="0" y="28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48"/>
                </a:lnTo>
                <a:close/>
              </a:path>
              <a:path fill="darken" w="21600" h="28048">
                <a:moveTo>
                  <a:pt x="10800" y="7061"/>
                </a:moveTo>
                <a:lnTo>
                  <a:pt x="13376" y="9672"/>
                </a:ln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lnTo>
                  <a:pt x="17763" y="14024"/>
                </a:lnTo>
                <a:lnTo>
                  <a:pt x="16109" y="14024"/>
                </a:lnTo>
                <a:lnTo>
                  <a:pt x="16109" y="21213"/>
                </a:lnTo>
                <a:lnTo>
                  <a:pt x="5491" y="21213"/>
                </a:lnTo>
                <a:lnTo>
                  <a:pt x="5491" y="14024"/>
                </a:lnTo>
                <a:lnTo>
                  <a:pt x="3837" y="14024"/>
                </a:lnTo>
                <a:close/>
              </a:path>
              <a:path fill="darkenLess" w="21600" h="28048">
                <a:moveTo>
                  <a:pt x="13376" y="9672"/>
                </a:move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close/>
              </a:path>
              <a:path fill="darkenLess" w="21600" h="28048">
                <a:moveTo>
                  <a:pt x="9877" y="17523"/>
                </a:moveTo>
                <a:lnTo>
                  <a:pt x="11723" y="17523"/>
                </a:lnTo>
                <a:lnTo>
                  <a:pt x="11723" y="21213"/>
                </a:lnTo>
                <a:lnTo>
                  <a:pt x="16109" y="21213"/>
                </a:lnTo>
                <a:lnTo>
                  <a:pt x="16109" y="14024"/>
                </a:lnTo>
                <a:lnTo>
                  <a:pt x="5491" y="14024"/>
                </a:lnTo>
                <a:lnTo>
                  <a:pt x="5491" y="21213"/>
                </a:lnTo>
                <a:lnTo>
                  <a:pt x="9877" y="21213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ahoma"/>
              </a:rPr>
              <a:t>Историческая справка о дымковской игрушк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первые этот народный промысел появился близ города Кирова, в небольшой слободе Дымково. Яркие фигурки из глины, расписанной красками сочных солнечных цветов местные крестьяне лепили к празднику Вятской Свистуньи, который традиционно отмечался весн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8153280" y="6019920"/>
            <a:ext cx="814680" cy="685800"/>
          </a:xfrm>
          <a:custGeom>
            <a:avLst/>
            <a:gdLst>
              <a:gd name="textAreaLeft" fmla="*/ 44280 w 814680"/>
              <a:gd name="textAreaRight" fmla="*/ 770400 w 814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57" h="21600">
                <a:moveTo>
                  <a:pt x="0" y="0"/>
                </a:moveTo>
                <a:lnTo>
                  <a:pt x="25657" y="0"/>
                </a:lnTo>
                <a:lnTo>
                  <a:pt x="25657" y="21600"/>
                </a:lnTo>
                <a:lnTo>
                  <a:pt x="0" y="21600"/>
                </a:lnTo>
                <a:close/>
              </a:path>
              <a:path fill="lightenLess" w="25657" h="21600">
                <a:moveTo>
                  <a:pt x="0" y="0"/>
                </a:moveTo>
                <a:lnTo>
                  <a:pt x="25657" y="0"/>
                </a:lnTo>
                <a:lnTo>
                  <a:pt x="24257" y="1400"/>
                </a:lnTo>
                <a:lnTo>
                  <a:pt x="1400" y="1400"/>
                </a:lnTo>
                <a:close/>
              </a:path>
              <a:path fill="darken" w="25657" h="21600">
                <a:moveTo>
                  <a:pt x="25657" y="0"/>
                </a:moveTo>
                <a:lnTo>
                  <a:pt x="25657" y="21600"/>
                </a:lnTo>
                <a:lnTo>
                  <a:pt x="24257" y="20200"/>
                </a:lnTo>
                <a:lnTo>
                  <a:pt x="24257" y="1400"/>
                </a:lnTo>
                <a:close/>
              </a:path>
              <a:path fill="darkenLess" w="25657" h="21600">
                <a:moveTo>
                  <a:pt x="25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57" y="20200"/>
                </a:lnTo>
                <a:close/>
              </a:path>
              <a:path fill="lighten" w="25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57" h="21600">
                <a:moveTo>
                  <a:pt x="5822" y="3794"/>
                </a:moveTo>
                <a:lnTo>
                  <a:pt x="19835" y="10800"/>
                </a:lnTo>
                <a:lnTo>
                  <a:pt x="582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 форме и виду дымковские игрушки довольно разнообразны. Как правило, это вылепленные из глины, полые внутри фигурки кавалеров и барышень, медведей, лошадей, пышнохвостых индюков, петухов, коров и козлов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1978200" cy="27241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98760" cy="3645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1784520" cy="32641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4952880" y="3581280"/>
            <a:ext cx="2005200" cy="2610000"/>
          </a:xfrm>
          <a:prstGeom prst="rect">
            <a:avLst/>
          </a:prstGeom>
          <a:ln w="0">
            <a:noFill/>
          </a:ln>
        </p:spPr>
      </p:pic>
      <p:sp>
        <p:nvSpPr>
          <p:cNvPr id="339" name="">
            <a:hlinkClick r:id="rId5" action="ppaction://hlinksldjump"/>
          </p:cNvPr>
          <p:cNvSpPr/>
          <p:nvPr/>
        </p:nvSpPr>
        <p:spPr>
          <a:xfrm>
            <a:off x="8634240" y="6195960"/>
            <a:ext cx="509760" cy="66204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662040"/>
              <a:gd name="textAreaBottom" fmla="*/ 629280 h 662040"/>
            </a:gdLst>
            <a:ahLst/>
            <a:rect l="textAreaLeft" t="textAreaTop" r="textAreaRight" b="textAreaBottom"/>
            <a:pathLst>
              <a:path w="21600" h="28048">
                <a:moveTo>
                  <a:pt x="0" y="0"/>
                </a:moveTo>
                <a:lnTo>
                  <a:pt x="21600" y="0"/>
                </a:lnTo>
                <a:lnTo>
                  <a:pt x="21600" y="28048"/>
                </a:lnTo>
                <a:lnTo>
                  <a:pt x="0" y="28048"/>
                </a:lnTo>
                <a:close/>
              </a:path>
              <a:path fill="lightenLess" w="21600" h="28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48">
                <a:moveTo>
                  <a:pt x="21600" y="0"/>
                </a:moveTo>
                <a:lnTo>
                  <a:pt x="21600" y="28048"/>
                </a:lnTo>
                <a:lnTo>
                  <a:pt x="20200" y="26648"/>
                </a:lnTo>
                <a:lnTo>
                  <a:pt x="20200" y="1400"/>
                </a:lnTo>
                <a:close/>
              </a:path>
              <a:path fill="darkenLess" w="21600" h="28048">
                <a:moveTo>
                  <a:pt x="21600" y="28048"/>
                </a:moveTo>
                <a:lnTo>
                  <a:pt x="0" y="28048"/>
                </a:lnTo>
                <a:lnTo>
                  <a:pt x="1400" y="26648"/>
                </a:lnTo>
                <a:lnTo>
                  <a:pt x="20200" y="26648"/>
                </a:lnTo>
                <a:close/>
              </a:path>
              <a:path fill="lighten" w="21600" h="28048">
                <a:moveTo>
                  <a:pt x="0" y="28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48"/>
                </a:lnTo>
                <a:close/>
              </a:path>
              <a:path fill="darken" w="21600" h="28048">
                <a:moveTo>
                  <a:pt x="10800" y="7061"/>
                </a:moveTo>
                <a:lnTo>
                  <a:pt x="13376" y="9672"/>
                </a:ln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lnTo>
                  <a:pt x="17763" y="14024"/>
                </a:lnTo>
                <a:lnTo>
                  <a:pt x="16109" y="14024"/>
                </a:lnTo>
                <a:lnTo>
                  <a:pt x="16109" y="21213"/>
                </a:lnTo>
                <a:lnTo>
                  <a:pt x="5491" y="21213"/>
                </a:lnTo>
                <a:lnTo>
                  <a:pt x="5491" y="14024"/>
                </a:lnTo>
                <a:lnTo>
                  <a:pt x="3837" y="14024"/>
                </a:lnTo>
                <a:close/>
              </a:path>
              <a:path fill="darkenLess" w="21600" h="28048">
                <a:moveTo>
                  <a:pt x="13376" y="9672"/>
                </a:move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close/>
              </a:path>
              <a:path fill="darkenLess" w="21600" h="28048">
                <a:moveTo>
                  <a:pt x="9877" y="17523"/>
                </a:moveTo>
                <a:lnTo>
                  <a:pt x="11723" y="17523"/>
                </a:lnTo>
                <a:lnTo>
                  <a:pt x="11723" y="21213"/>
                </a:lnTo>
                <a:lnTo>
                  <a:pt x="16109" y="21213"/>
                </a:lnTo>
                <a:lnTo>
                  <a:pt x="16109" y="14024"/>
                </a:lnTo>
                <a:lnTo>
                  <a:pt x="5491" y="14024"/>
                </a:lnTo>
                <a:lnTo>
                  <a:pt x="5491" y="21213"/>
                </a:lnTo>
                <a:lnTo>
                  <a:pt x="9877" y="21213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Tahoma"/>
              </a:rPr>
              <a:t>Особенности лепки персонаже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ымковскую игрушку лепят по частям, которые тщательно соединяют между собой таким образом, что создается впечатление ц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44956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033720" y="3200400"/>
            <a:ext cx="3303720" cy="36576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55560" y="3200400"/>
            <a:ext cx="2092320" cy="34671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6550200" y="3276720"/>
            <a:ext cx="2593800" cy="2771640"/>
          </a:xfrm>
          <a:prstGeom prst="rect">
            <a:avLst/>
          </a:prstGeom>
          <a:ln w="0">
            <a:noFill/>
          </a:ln>
        </p:spPr>
      </p:pic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8329680" y="6172200"/>
            <a:ext cx="814320" cy="685800"/>
          </a:xfrm>
          <a:custGeom>
            <a:avLst/>
            <a:gdLst>
              <a:gd name="textAreaLeft" fmla="*/ 44280 w 814320"/>
              <a:gd name="textAreaRight" fmla="*/ 770040 w 814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46" h="21600">
                <a:moveTo>
                  <a:pt x="0" y="0"/>
                </a:moveTo>
                <a:lnTo>
                  <a:pt x="25646" y="0"/>
                </a:lnTo>
                <a:lnTo>
                  <a:pt x="25646" y="21600"/>
                </a:lnTo>
                <a:lnTo>
                  <a:pt x="0" y="21600"/>
                </a:lnTo>
                <a:close/>
              </a:path>
              <a:path fill="lightenLess" w="25646" h="21600">
                <a:moveTo>
                  <a:pt x="0" y="0"/>
                </a:moveTo>
                <a:lnTo>
                  <a:pt x="25646" y="0"/>
                </a:lnTo>
                <a:lnTo>
                  <a:pt x="24246" y="1400"/>
                </a:lnTo>
                <a:lnTo>
                  <a:pt x="1400" y="1400"/>
                </a:lnTo>
                <a:close/>
              </a:path>
              <a:path fill="darken" w="25646" h="21600">
                <a:moveTo>
                  <a:pt x="25646" y="0"/>
                </a:moveTo>
                <a:lnTo>
                  <a:pt x="25646" y="21600"/>
                </a:lnTo>
                <a:lnTo>
                  <a:pt x="24246" y="20200"/>
                </a:lnTo>
                <a:lnTo>
                  <a:pt x="24246" y="1400"/>
                </a:lnTo>
                <a:close/>
              </a:path>
              <a:path fill="darkenLess" w="25646" h="21600">
                <a:moveTo>
                  <a:pt x="25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6" y="20200"/>
                </a:lnTo>
                <a:close/>
              </a:path>
              <a:path fill="lighten" w="25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6" h="21600">
                <a:moveTo>
                  <a:pt x="5816" y="3794"/>
                </a:moveTo>
                <a:lnTo>
                  <a:pt x="19829" y="10800"/>
                </a:lnTo>
                <a:lnTo>
                  <a:pt x="581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181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ластической основой для всех женских фигурок является ступка-колокол — устойчивое основание и в то же время пышная юбк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5257800" y="533520"/>
            <a:ext cx="3562200" cy="5562360"/>
          </a:xfrm>
          <a:prstGeom prst="rect">
            <a:avLst/>
          </a:prstGeom>
          <a:ln w="0">
            <a:noFill/>
          </a:ln>
        </p:spPr>
      </p:pic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8329680" y="6172200"/>
            <a:ext cx="814320" cy="685800"/>
          </a:xfrm>
          <a:custGeom>
            <a:avLst/>
            <a:gdLst>
              <a:gd name="textAreaLeft" fmla="*/ 44280 w 814320"/>
              <a:gd name="textAreaRight" fmla="*/ 770040 w 814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46" h="21600">
                <a:moveTo>
                  <a:pt x="0" y="0"/>
                </a:moveTo>
                <a:lnTo>
                  <a:pt x="25646" y="0"/>
                </a:lnTo>
                <a:lnTo>
                  <a:pt x="25646" y="21600"/>
                </a:lnTo>
                <a:lnTo>
                  <a:pt x="0" y="21600"/>
                </a:lnTo>
                <a:close/>
              </a:path>
              <a:path fill="lightenLess" w="25646" h="21600">
                <a:moveTo>
                  <a:pt x="0" y="0"/>
                </a:moveTo>
                <a:lnTo>
                  <a:pt x="25646" y="0"/>
                </a:lnTo>
                <a:lnTo>
                  <a:pt x="24246" y="1400"/>
                </a:lnTo>
                <a:lnTo>
                  <a:pt x="1400" y="1400"/>
                </a:lnTo>
                <a:close/>
              </a:path>
              <a:path fill="darken" w="25646" h="21600">
                <a:moveTo>
                  <a:pt x="25646" y="0"/>
                </a:moveTo>
                <a:lnTo>
                  <a:pt x="25646" y="21600"/>
                </a:lnTo>
                <a:lnTo>
                  <a:pt x="24246" y="20200"/>
                </a:lnTo>
                <a:lnTo>
                  <a:pt x="24246" y="1400"/>
                </a:lnTo>
                <a:close/>
              </a:path>
              <a:path fill="darkenLess" w="25646" h="21600">
                <a:moveTo>
                  <a:pt x="25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6" y="20200"/>
                </a:lnTo>
                <a:close/>
              </a:path>
              <a:path fill="lighten" w="25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6" h="21600">
                <a:moveTo>
                  <a:pt x="5816" y="3794"/>
                </a:moveTo>
                <a:lnTo>
                  <a:pt x="19829" y="10800"/>
                </a:lnTo>
                <a:lnTo>
                  <a:pt x="581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сота ступки больше половины общей высоты фигурки барышни. К ступке прикрепляют торс, а к нему - шарик-головку, скатанные калачиком ру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другие лепные детали одежды и головного убора, характерные для данной композици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122200" cy="4876560"/>
          </a:xfrm>
          <a:prstGeom prst="rect">
            <a:avLst/>
          </a:prstGeom>
          <a:ln w="0">
            <a:noFill/>
          </a:ln>
        </p:spPr>
      </p:pic>
      <p:sp>
        <p:nvSpPr>
          <p:cNvPr id="353" name="">
            <a:hlinkClick r:id="" action="ppaction://hlinkshowjump?jump=nextslide"/>
          </p:cNvPr>
          <p:cNvSpPr/>
          <p:nvPr/>
        </p:nvSpPr>
        <p:spPr>
          <a:xfrm>
            <a:off x="8329680" y="6172200"/>
            <a:ext cx="814320" cy="685800"/>
          </a:xfrm>
          <a:custGeom>
            <a:avLst/>
            <a:gdLst>
              <a:gd name="textAreaLeft" fmla="*/ 44280 w 814320"/>
              <a:gd name="textAreaRight" fmla="*/ 770040 w 814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46" h="21600">
                <a:moveTo>
                  <a:pt x="0" y="0"/>
                </a:moveTo>
                <a:lnTo>
                  <a:pt x="25646" y="0"/>
                </a:lnTo>
                <a:lnTo>
                  <a:pt x="25646" y="21600"/>
                </a:lnTo>
                <a:lnTo>
                  <a:pt x="0" y="21600"/>
                </a:lnTo>
                <a:close/>
              </a:path>
              <a:path fill="lightenLess" w="25646" h="21600">
                <a:moveTo>
                  <a:pt x="0" y="0"/>
                </a:moveTo>
                <a:lnTo>
                  <a:pt x="25646" y="0"/>
                </a:lnTo>
                <a:lnTo>
                  <a:pt x="24246" y="1400"/>
                </a:lnTo>
                <a:lnTo>
                  <a:pt x="1400" y="1400"/>
                </a:lnTo>
                <a:close/>
              </a:path>
              <a:path fill="darken" w="25646" h="21600">
                <a:moveTo>
                  <a:pt x="25646" y="0"/>
                </a:moveTo>
                <a:lnTo>
                  <a:pt x="25646" y="21600"/>
                </a:lnTo>
                <a:lnTo>
                  <a:pt x="24246" y="20200"/>
                </a:lnTo>
                <a:lnTo>
                  <a:pt x="24246" y="1400"/>
                </a:lnTo>
                <a:close/>
              </a:path>
              <a:path fill="darkenLess" w="25646" h="21600">
                <a:moveTo>
                  <a:pt x="25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6" y="20200"/>
                </a:lnTo>
                <a:close/>
              </a:path>
              <a:path fill="lighten" w="25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6" h="21600">
                <a:moveTo>
                  <a:pt x="5816" y="3794"/>
                </a:moveTo>
                <a:lnTo>
                  <a:pt x="19829" y="10800"/>
                </a:lnTo>
                <a:lnTo>
                  <a:pt x="581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ужские образы лепят по-другому. Торс с головкой прикрепляют к двум толстым, соединенным наверху "колбаскам", немного суженным книзу на конус. Загнув эти колбаски, получают ножки фигур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523880" y="2982960"/>
            <a:ext cx="4057920" cy="38750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5715000" y="2209680"/>
            <a:ext cx="3200400" cy="4267440"/>
          </a:xfrm>
          <a:prstGeom prst="rect">
            <a:avLst/>
          </a:prstGeom>
          <a:ln w="0">
            <a:noFill/>
          </a:ln>
        </p:spPr>
      </p:pic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153280" y="5943600"/>
            <a:ext cx="814680" cy="685800"/>
          </a:xfrm>
          <a:custGeom>
            <a:avLst/>
            <a:gdLst>
              <a:gd name="textAreaLeft" fmla="*/ 44280 w 814680"/>
              <a:gd name="textAreaRight" fmla="*/ 770400 w 814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57" h="21600">
                <a:moveTo>
                  <a:pt x="0" y="0"/>
                </a:moveTo>
                <a:lnTo>
                  <a:pt x="25657" y="0"/>
                </a:lnTo>
                <a:lnTo>
                  <a:pt x="25657" y="21600"/>
                </a:lnTo>
                <a:lnTo>
                  <a:pt x="0" y="21600"/>
                </a:lnTo>
                <a:close/>
              </a:path>
              <a:path fill="lightenLess" w="25657" h="21600">
                <a:moveTo>
                  <a:pt x="0" y="0"/>
                </a:moveTo>
                <a:lnTo>
                  <a:pt x="25657" y="0"/>
                </a:lnTo>
                <a:lnTo>
                  <a:pt x="24257" y="1400"/>
                </a:lnTo>
                <a:lnTo>
                  <a:pt x="1400" y="1400"/>
                </a:lnTo>
                <a:close/>
              </a:path>
              <a:path fill="darken" w="25657" h="21600">
                <a:moveTo>
                  <a:pt x="25657" y="0"/>
                </a:moveTo>
                <a:lnTo>
                  <a:pt x="25657" y="21600"/>
                </a:lnTo>
                <a:lnTo>
                  <a:pt x="24257" y="20200"/>
                </a:lnTo>
                <a:lnTo>
                  <a:pt x="24257" y="1400"/>
                </a:lnTo>
                <a:close/>
              </a:path>
              <a:path fill="darkenLess" w="25657" h="21600">
                <a:moveTo>
                  <a:pt x="25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57" y="20200"/>
                </a:lnTo>
                <a:close/>
              </a:path>
              <a:path fill="lighten" w="25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57" h="21600">
                <a:moveTo>
                  <a:pt x="5822" y="3794"/>
                </a:moveTo>
                <a:lnTo>
                  <a:pt x="19835" y="10800"/>
                </a:lnTo>
                <a:lnTo>
                  <a:pt x="582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уловище животных напоминает усеченный конус, к более узкой части которого прикрепляют голову с шеей. Ножки животных — четыре одинаковые колбаски, чуть суженные книзу, прикрепляют к торсу животного, хвост и рога лепят отдельно и прикрепляют позже других деталей.</a:t>
            </a:r>
            <a:br>
              <a:rPr sz="24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2665440" cy="33526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886200" y="3267000"/>
            <a:ext cx="1886040" cy="3591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6248520" y="3505320"/>
            <a:ext cx="2635200" cy="2971800"/>
          </a:xfrm>
          <a:prstGeom prst="rect">
            <a:avLst/>
          </a:prstGeom>
          <a:ln w="0">
            <a:noFill/>
          </a:ln>
        </p:spPr>
      </p:pic>
      <p:sp>
        <p:nvSpPr>
          <p:cNvPr id="362" name="">
            <a:hlinkClick r:id="rId4" action="ppaction://hlinksldjump"/>
          </p:cNvPr>
          <p:cNvSpPr/>
          <p:nvPr/>
        </p:nvSpPr>
        <p:spPr>
          <a:xfrm>
            <a:off x="8634240" y="6195960"/>
            <a:ext cx="509760" cy="66204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662040"/>
              <a:gd name="textAreaBottom" fmla="*/ 629280 h 662040"/>
            </a:gdLst>
            <a:ahLst/>
            <a:rect l="textAreaLeft" t="textAreaTop" r="textAreaRight" b="textAreaBottom"/>
            <a:pathLst>
              <a:path w="21600" h="28048">
                <a:moveTo>
                  <a:pt x="0" y="0"/>
                </a:moveTo>
                <a:lnTo>
                  <a:pt x="21600" y="0"/>
                </a:lnTo>
                <a:lnTo>
                  <a:pt x="21600" y="28048"/>
                </a:lnTo>
                <a:lnTo>
                  <a:pt x="0" y="28048"/>
                </a:lnTo>
                <a:close/>
              </a:path>
              <a:path fill="lightenLess" w="21600" h="28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48">
                <a:moveTo>
                  <a:pt x="21600" y="0"/>
                </a:moveTo>
                <a:lnTo>
                  <a:pt x="21600" y="28048"/>
                </a:lnTo>
                <a:lnTo>
                  <a:pt x="20200" y="26648"/>
                </a:lnTo>
                <a:lnTo>
                  <a:pt x="20200" y="1400"/>
                </a:lnTo>
                <a:close/>
              </a:path>
              <a:path fill="darkenLess" w="21600" h="28048">
                <a:moveTo>
                  <a:pt x="21600" y="28048"/>
                </a:moveTo>
                <a:lnTo>
                  <a:pt x="0" y="28048"/>
                </a:lnTo>
                <a:lnTo>
                  <a:pt x="1400" y="26648"/>
                </a:lnTo>
                <a:lnTo>
                  <a:pt x="20200" y="26648"/>
                </a:lnTo>
                <a:close/>
              </a:path>
              <a:path fill="lighten" w="21600" h="28048">
                <a:moveTo>
                  <a:pt x="0" y="28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48"/>
                </a:lnTo>
                <a:close/>
              </a:path>
              <a:path fill="darken" w="21600" h="28048">
                <a:moveTo>
                  <a:pt x="10800" y="7061"/>
                </a:moveTo>
                <a:lnTo>
                  <a:pt x="13376" y="9672"/>
                </a:ln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lnTo>
                  <a:pt x="17763" y="14024"/>
                </a:lnTo>
                <a:lnTo>
                  <a:pt x="16109" y="14024"/>
                </a:lnTo>
                <a:lnTo>
                  <a:pt x="16109" y="21213"/>
                </a:lnTo>
                <a:lnTo>
                  <a:pt x="5491" y="21213"/>
                </a:lnTo>
                <a:lnTo>
                  <a:pt x="5491" y="14024"/>
                </a:lnTo>
                <a:lnTo>
                  <a:pt x="3837" y="14024"/>
                </a:lnTo>
                <a:close/>
              </a:path>
              <a:path fill="darkenLess" w="21600" h="28048">
                <a:moveTo>
                  <a:pt x="13376" y="9672"/>
                </a:moveTo>
                <a:lnTo>
                  <a:pt x="13376" y="7931"/>
                </a:lnTo>
                <a:lnTo>
                  <a:pt x="15152" y="7931"/>
                </a:lnTo>
                <a:lnTo>
                  <a:pt x="15152" y="11448"/>
                </a:lnTo>
                <a:close/>
              </a:path>
              <a:path fill="darkenLess" w="21600" h="28048">
                <a:moveTo>
                  <a:pt x="9877" y="17523"/>
                </a:moveTo>
                <a:lnTo>
                  <a:pt x="11723" y="17523"/>
                </a:lnTo>
                <a:lnTo>
                  <a:pt x="11723" y="21213"/>
                </a:lnTo>
                <a:lnTo>
                  <a:pt x="16109" y="21213"/>
                </a:lnTo>
                <a:lnTo>
                  <a:pt x="16109" y="14024"/>
                </a:lnTo>
                <a:lnTo>
                  <a:pt x="5491" y="14024"/>
                </a:lnTo>
                <a:lnTo>
                  <a:pt x="5491" y="21213"/>
                </a:lnTo>
                <a:lnTo>
                  <a:pt x="9877" y="2121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09T08:09:36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